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gif" ContentType="image/gif"/>
  <Override PartName="/ppt/media/image15.wmf" ContentType="image/x-wmf"/>
  <Override PartName="/ppt/media/image7.gif" ContentType="image/gif"/>
  <Override PartName="/ppt/media/image12.gif" ContentType="image/gif"/>
  <Override PartName="/ppt/media/image14.jpeg" ContentType="image/jpeg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623-9DA5-4FE4-B280-E38E1832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013-2154-482C-AF16-03E0E29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D45-23C5-4A25-A18E-BB531290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EC3-7C55-4356-80EB-FAA78E4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48B-DB9B-4625-B6B1-098EF2DA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1AE-30EF-4DCD-837A-CEAEE5C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BAE-602B-4BC3-B940-13D3C79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0FB-88FB-4E65-A7B7-9EFF069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4CB-1CEE-4439-BEC5-587E8BB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799-8E69-4F19-9BEA-50DE7473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B5C-AEAC-4950-A91C-CDE03A3E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939-E964-4514-AAF2-0010722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852-3CDB-4B98-A34D-B63B286A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 Rutina D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8600" y="981000"/>
            <a:ext cx="1839960" cy="148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057320" cy="92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96192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64000" y="5445000"/>
            <a:ext cx="109548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885080" y="40464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48360" y="1125360"/>
            <a:ext cx="101916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476360" y="522936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378936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012000" y="5445000"/>
            <a:ext cx="76176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164360" y="2565360"/>
            <a:ext cx="1065240" cy="77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564000" y="33336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1835280" y="3357720"/>
            <a:ext cx="90468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7667640" y="5516640"/>
            <a:ext cx="8287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go mis deb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o 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88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o la t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ac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37000" y="2527200"/>
            <a:ext cx="2070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despierto y  me lev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1280" y="1772640"/>
            <a:ext cx="655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avo / me d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809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969080" cy="369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000" y="83664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af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v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75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o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1608120"/>
            <a:ext cx="55450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318200" cy="396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16000" y="76500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cepillo los d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 al cole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24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uelvo 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0360" y="2341440"/>
            <a:ext cx="39592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9:01:14Z</dcterms:created>
  <dc:creator>jens</dc:creator>
  <dc:description/>
  <dc:language>en-US</dc:language>
  <cp:lastModifiedBy>Chris Fuller</cp:lastModifiedBy>
  <dcterms:modified xsi:type="dcterms:W3CDTF">2006-10-04T11:07:10Z</dcterms:modified>
  <cp:revision>4</cp:revision>
  <dc:subject/>
  <dc:title>Mi Rutina Di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9900591</vt:r8>
  </property>
  <property fmtid="{D5CDD505-2E9C-101B-9397-08002B2CF9AE}" pid="3" name="_AuthorEmail">
    <vt:lpwstr>jens@davenant.com</vt:lpwstr>
  </property>
  <property fmtid="{D5CDD505-2E9C-101B-9397-08002B2CF9AE}" pid="4" name="_AuthorEmailDisplayName">
    <vt:lpwstr>Jen Sutton</vt:lpwstr>
  </property>
  <property fmtid="{D5CDD505-2E9C-101B-9397-08002B2CF9AE}" pid="5" name="_EmailSubject">
    <vt:lpwstr>Power Point Pres.</vt:lpwstr>
  </property>
  <property fmtid="{D5CDD505-2E9C-101B-9397-08002B2CF9AE}" pid="6" name="_ReviewingToolsShownOnce">
    <vt:lpwstr/>
  </property>
</Properties>
</file>